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49F-B5B9-40A6-B606-FA2A16D4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DC4-E2CF-4384-A896-7EC887C8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6FD-EC44-4FE7-98BB-B036AFF5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FCA-B5D5-40F0-8CB3-CFE352D5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227F-B2AB-4524-9450-42C13D24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FF7F-FF73-4F3C-9C3A-1C33652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AA27-3FC1-47FE-805F-1CD7FE7F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7E5A-4E0B-4699-96A1-1A5A0FCE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087D-28B2-40F1-8407-D1B9419C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E478-29AF-4304-888E-AE3812E4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8E55-3A79-4CE2-8E4C-F930CEA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CA6-1350-4B1B-A951-039F614C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D7F6-3478-48EB-815A-B2E02DE1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6442-F3FE-4E38-8399-12B6D8D7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735B-ACFF-4073-AAE4-DD0FE9E2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37A1-D26A-4060-BFBD-12B36DAF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63AD-D0CE-4EC2-9951-3CDB2F57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A85-CB77-46D0-AC31-12D282D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1DC-13EE-43C9-93D5-06E8F090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148-D606-4FE1-A8A9-656EA165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E48-A265-4749-91ED-029A1467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486-8CAE-4E38-B0D0-56600464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F22-36F3-4CDC-92D8-01908A9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4A3-6649-4DA1-9F27-237F7D2F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6f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6f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16B2-1E88-41E0-B484-9E3A04C6C69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6f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1E25-FB2A-462F-9500-272D693F29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cs.ohio-state.edu/hcs300/glossary/glossary.htm" TargetMode="External"/><Relationship Id="rId2" Type="http://schemas.openxmlformats.org/officeDocument/2006/relationships/hyperlink" Target="http://classroom.jc-schools.net/sci-units/plants-animals.htm" TargetMode="External"/><Relationship Id="rId3" Type="http://schemas.openxmlformats.org/officeDocument/2006/relationships/hyperlink" Target="http://www.urbanext.uiuc.edu/gpe/case1/facts.html" TargetMode="External"/><Relationship Id="rId4" Type="http://schemas.openxmlformats.org/officeDocument/2006/relationships/hyperlink" Target="http://www.firstschoolyears.com/science/worksheets/plants/plants.html" TargetMode="External"/><Relationship Id="rId5" Type="http://schemas.openxmlformats.org/officeDocument/2006/relationships/hyperlink" Target="http://www.naturegrid.org.uk/plant/parts.html" TargetMode="External"/><Relationship Id="rId6" Type="http://schemas.openxmlformats.org/officeDocument/2006/relationships/hyperlink" Target="http://www.hhmi.org/coolscience/vegquiz/plantparts.html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Parts of a Plant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de 2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4" descr="cflowery6"/>
          <p:cNvPicPr/>
          <p:nvPr/>
        </p:nvPicPr>
        <p:blipFill>
          <a:blip r:embed="rId1"/>
          <a:stretch/>
        </p:blipFill>
        <p:spPr>
          <a:xfrm>
            <a:off x="7315200" y="1219320"/>
            <a:ext cx="1828800" cy="37558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makes food for the plant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leaves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above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above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stem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is usually colore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elps make seeds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flower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more practice go to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hcs.ohio-state.edu/hcs300/glossary/glossary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classroom.jc-schools.net/sci-units/plants-animals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urbanext.uiuc.edu/gpe/case1/fac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firstschoolyears.com/science/worksheets/plants/plants.htm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(go to label the pl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naturegrid.org.uk/plant/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www.hhmi.org/coolscience/vegquiz/plant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fern"/>
          <p:cNvPicPr/>
          <p:nvPr/>
        </p:nvPicPr>
        <p:blipFill>
          <a:blip r:embed="rId7"/>
          <a:stretch/>
        </p:blipFill>
        <p:spPr>
          <a:xfrm>
            <a:off x="6324480" y="0"/>
            <a:ext cx="2590920" cy="1782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Resources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hcs.ohio-state.edu/hcs300/glossary/glossary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classroom.jc-schools.net/sci-units/plants-animals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urbanext.uiuc.edu/gpe/case1/fac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firstschoolyears.com/science/worksheets/plants/plants.html  (go to label the pl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naturegrid.org.uk/plant/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hhmi.org/coolscience/vegquiz/plant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4" descr="fern"/>
          <p:cNvPicPr/>
          <p:nvPr/>
        </p:nvPicPr>
        <p:blipFill>
          <a:blip r:embed="rId1"/>
          <a:stretch/>
        </p:blipFill>
        <p:spPr>
          <a:xfrm>
            <a:off x="6324480" y="0"/>
            <a:ext cx="2590920" cy="1782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The student will learn: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escribe the function of the following plant parts: Leaves, Stems, Flowers, Roo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teacherexplain"/>
          <p:cNvPicPr/>
          <p:nvPr/>
        </p:nvPicPr>
        <p:blipFill>
          <a:blip r:embed="rId1"/>
          <a:stretch/>
        </p:blipFill>
        <p:spPr>
          <a:xfrm>
            <a:off x="5105520" y="4216320"/>
            <a:ext cx="3124080" cy="2217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he Stem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lds up the plant parts above the ground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has tiny tubes to transport water and nutrients to the plant’s part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acti"/>
          <p:cNvPicPr/>
          <p:nvPr/>
        </p:nvPicPr>
        <p:blipFill>
          <a:blip r:embed="rId1"/>
          <a:stretch/>
        </p:blipFill>
        <p:spPr>
          <a:xfrm>
            <a:off x="7342200" y="1371600"/>
            <a:ext cx="180180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Leave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Make food for plants which is sugar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ake in carbon dioxide through tiny openings in the leave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leaf1"/>
          <p:cNvPicPr/>
          <p:nvPr/>
        </p:nvPicPr>
        <p:blipFill>
          <a:blip r:embed="rId1"/>
          <a:stretch/>
        </p:blipFill>
        <p:spPr>
          <a:xfrm>
            <a:off x="3962520" y="304920"/>
            <a:ext cx="327636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eaf1"/>
          <p:cNvPicPr/>
          <p:nvPr/>
        </p:nvPicPr>
        <p:blipFill>
          <a:blip r:embed="rId2"/>
          <a:stretch/>
        </p:blipFill>
        <p:spPr>
          <a:xfrm>
            <a:off x="6858000" y="914400"/>
            <a:ext cx="1733400" cy="923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Root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ld the plant in the groun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ake in water and nutrients for the plant’s growth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roots"/>
          <p:cNvPicPr/>
          <p:nvPr/>
        </p:nvPicPr>
        <p:blipFill>
          <a:blip r:embed="rId1"/>
          <a:stretch/>
        </p:blipFill>
        <p:spPr>
          <a:xfrm>
            <a:off x="1371600" y="4724280"/>
            <a:ext cx="7086600" cy="2079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Flower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 flower helps make see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roseorange"/>
          <p:cNvPicPr/>
          <p:nvPr/>
        </p:nvPicPr>
        <p:blipFill>
          <a:blip r:embed="rId1"/>
          <a:stretch/>
        </p:blipFill>
        <p:spPr>
          <a:xfrm>
            <a:off x="2895480" y="3200400"/>
            <a:ext cx="3581640" cy="3368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in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in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Roots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makes food for the plant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7:41:49Z</dcterms:created>
  <dc:creator>Jefferson County Tech Center</dc:creator>
  <dc:description/>
  <dc:language>en-US</dc:language>
  <cp:lastModifiedBy>admin</cp:lastModifiedBy>
  <dcterms:modified xsi:type="dcterms:W3CDTF">2011-02-03T18:37:11Z</dcterms:modified>
  <cp:revision>4</cp:revision>
  <dc:subject/>
  <dc:title>Parts of a Plant</dc:title>
</cp:coreProperties>
</file>